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1E2-FE94-4B3F-8D97-2EA4402A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FBF9-9326-42AE-80A3-0A9CF458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F29-7389-49CF-9DE4-2CD698B6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4E9-FDEF-4E6D-A139-DC480231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62C99-346B-4AB5-B4FD-B9257261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A2301-E51A-44AD-B24A-8A41FB04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852C9-CBB2-4FEA-A246-96DB160C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2079B-CAA5-4096-9ED5-B4FEFD19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90393-5E57-4934-8FF9-AABDC074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63E5E-519A-4591-AD80-7BA1716C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A228C-D13F-4F3A-A9FE-85E9909E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36B-B2FD-45D2-A7ED-2D104749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D03D4-9421-4B26-9122-CC1C57C3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A4709-F413-4412-ACCB-2AC72294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B9029-B16F-4948-BE24-FCB96279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6FFC6-5323-42F7-ABC1-ACBD00CA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FD79B-57B0-4C92-B1D1-E792F92F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6866-ED0E-462B-88B8-EEB8607C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AF9-29F7-4851-9B9F-FB33F0E3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96D6-1FB5-49D0-84FD-DE1DB589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735F-E9FC-4B51-9FE0-2E2033A4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D93-E134-40E5-BD0E-4C76261A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42F9-1AAA-412F-B15F-46E5277B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077-DCD9-47DE-829C-5B7F36EC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1928-0DF7-498E-9617-6268D695A6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4341-7A80-44D4-BDFF-B8E309D7AE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Kristen ITC"/>
              </a:rPr>
              <a:t>Wild Mammal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By: Morgan C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0" y="4191120"/>
            <a:ext cx="4495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20:02:47Z</dcterms:created>
  <dc:creator>mostrander</dc:creator>
  <dc:description/>
  <dc:language>en-US</dc:language>
  <cp:lastModifiedBy>mostrander</cp:lastModifiedBy>
  <dcterms:modified xsi:type="dcterms:W3CDTF">2007-10-12T20:13:35Z</dcterms:modified>
  <cp:revision>2</cp:revision>
  <dc:subject/>
  <dc:title>Wild Mammals</dc:title>
</cp:coreProperties>
</file>